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01F1-E350-4F61-9EA3-E0240C65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FDCF-D3E7-444F-AE31-087A0583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1584-ED4B-42AF-ACEB-702688C39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98C5-7805-40FD-BB9F-16CEE950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E9BA-7AD8-4C2C-A2DA-9CFEDC0B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BD78-AEA7-4B3B-B3FF-DE54BBB3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9F66-A597-4490-801F-563330BA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7942-0E72-4B80-BFA1-BA4E7CAA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265A-169C-4779-921F-12D8055A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BD94-DFA7-4A80-BC69-FCC58FDF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940A-36AA-4713-8F78-FD676EEA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E021-C39D-46FF-8E6F-D6743287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6B7B-15CE-42AA-9C2C-781DB443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0173-2633-471F-8476-3093777F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27D7-A027-4D01-8B24-A51ECE66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5F4B-B8E8-424A-94CA-D27D7F95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95FA-2609-45B5-8CA9-49367283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5038-FB06-4413-80DE-FDBB223D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932A-E657-4742-B13F-F0C73875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3369-1901-4AF7-8FC3-88799E5E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58D6-770C-40CC-A0FB-4C360B2E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013F-76CE-4313-835E-9D76AEE5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BF29-CFE3-4553-B593-80305DD5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86C6-051E-4265-B67C-1DC139FC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219C-E526-42AE-A0EB-E65A1E047E9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FDEC-2C3D-480A-9A30-469D8DEFC15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abobank.nl/" TargetMode="External"/><Relationship Id="rId3" Type="http://schemas.openxmlformats.org/officeDocument/2006/relationships/hyperlink" Target="http://www.kvk.nl/" TargetMode="External"/><Relationship Id="rId4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58440" y="2492280"/>
            <a:ext cx="609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b9efee"/>
                </a:solidFill>
                <a:latin typeface="Garamond"/>
              </a:rPr>
              <a:t>WELKOM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57200" y="347760"/>
            <a:ext cx="8229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Levert ons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Structuu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Handboeke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Regels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Ondersteunin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Kamer van Koophande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Belastingdiens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n natuurlijk 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Garamond"/>
              </a:rPr>
              <a:t>Een Bedrijfs Begeleider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1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Garamond"/>
              </a:rPr>
              <a:t>Een Financieel Adviseur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Dit zijn </a:t>
            </a:r>
            <a:r>
              <a:rPr b="0" lang="nl-NL" sz="6000" spc="-1" strike="noStrike">
                <a:solidFill>
                  <a:srgbClr val="ffffff"/>
                </a:solidFill>
                <a:latin typeface="Garamond"/>
              </a:rPr>
              <a:t>Vrijwilligers !!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De Taart</a:t>
            </a: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620800" y="1704960"/>
            <a:ext cx="4410360" cy="4113360"/>
          </a:xfrm>
          <a:prstGeom prst="ellipse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59560" y="4933800"/>
            <a:ext cx="19940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12040" y="1886040"/>
            <a:ext cx="2008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79640" y="4941720"/>
            <a:ext cx="18968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65080" y="1863720"/>
            <a:ext cx="228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94320" y="32558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40160" y="5987880"/>
            <a:ext cx="11145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23200" y="3622680"/>
            <a:ext cx="717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09560" y="3600360"/>
            <a:ext cx="6890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35480" y="1193760"/>
            <a:ext cx="108252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31040" y="4413240"/>
            <a:ext cx="4827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31720" y="4305240"/>
            <a:ext cx="4047480" cy="1041480"/>
            <a:chOff x="531720" y="4305240"/>
            <a:chExt cx="4047480" cy="1041480"/>
          </a:xfrm>
        </p:grpSpPr>
        <p:sp>
          <p:nvSpPr>
            <p:cNvPr id="155" name=""/>
            <p:cNvSpPr/>
            <p:nvPr/>
          </p:nvSpPr>
          <p:spPr>
            <a:xfrm>
              <a:off x="531720" y="4988880"/>
              <a:ext cx="264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Proces en uitvoering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3439800" y="4305240"/>
              <a:ext cx="1139400" cy="1041480"/>
              <a:chOff x="3439800" y="4305240"/>
              <a:chExt cx="1139400" cy="1041480"/>
            </a:xfrm>
          </p:grpSpPr>
          <p:sp>
            <p:nvSpPr>
              <p:cNvPr id="157" name=""/>
              <p:cNvSpPr/>
              <p:nvPr/>
            </p:nvSpPr>
            <p:spPr>
              <a:xfrm flipH="1">
                <a:off x="3439800" y="4338360"/>
                <a:ext cx="22320" cy="1008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99640" y="4399920"/>
                <a:ext cx="79560" cy="94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rot="10800000">
                <a:off x="3450960" y="4305240"/>
                <a:ext cx="1071360" cy="446400"/>
              </a:xfrm>
              <a:prstGeom prst="flowChartPunchedTape">
                <a:avLst/>
              </a:prstGeom>
              <a:solidFill>
                <a:srgbClr val="0066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 txBox="1"/>
              <p:nvPr/>
            </p:nvSpPr>
            <p:spPr>
              <a:xfrm>
                <a:off x="3544200" y="4341600"/>
                <a:ext cx="875160" cy="369000"/>
              </a:xfrm>
              <a:prstGeom prst="rect">
                <a:avLst/>
              </a:prstGeom>
            </p:spPr>
            <p:txBody>
              <a:bodyPr wrap="none" lIns="0" rIns="0" tIns="0" bIns="0" anchor="t" anchorCtr="1">
                <a:prstTxWarp prst="textWave1">
                  <a:avLst>
                    <a:gd name="adj1" fmla="val 6481"/>
                    <a:gd name="adj2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009999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c0c0c0"/>
                      </a:outerShdw>
                    </a:effectLst>
                    <a:latin typeface="Verdana"/>
                  </a:rPr>
                  <a:t>FINISH</a:t>
                </a:r>
                <a:endPara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Verdana"/>
                  <a:ea typeface="Verdana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5277960" y="1727280"/>
            <a:ext cx="3656160" cy="1507320"/>
            <a:chOff x="5277960" y="1727280"/>
            <a:chExt cx="3656160" cy="1507320"/>
          </a:xfrm>
        </p:grpSpPr>
        <p:sp>
          <p:nvSpPr>
            <p:cNvPr id="162" name=""/>
            <p:cNvSpPr/>
            <p:nvPr/>
          </p:nvSpPr>
          <p:spPr>
            <a:xfrm>
              <a:off x="6712200" y="1727280"/>
              <a:ext cx="2221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Innovati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en marketing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5277960" y="2221560"/>
              <a:ext cx="1026360" cy="1013040"/>
              <a:chOff x="5277960" y="2221560"/>
              <a:chExt cx="1026360" cy="1013040"/>
            </a:xfrm>
          </p:grpSpPr>
          <p:pic>
            <p:nvPicPr>
              <p:cNvPr id="16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26800" y="2603520"/>
                <a:ext cx="330480" cy="63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"/>
              <p:cNvSpPr/>
              <p:nvPr/>
            </p:nvSpPr>
            <p:spPr>
              <a:xfrm flipH="1">
                <a:off x="5277960" y="2788560"/>
                <a:ext cx="268920" cy="8568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5394600" y="2381760"/>
                <a:ext cx="242640" cy="18504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5848560" y="2221560"/>
                <a:ext cx="12600" cy="25884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6048360" y="2468880"/>
                <a:ext cx="255960" cy="13428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069960" y="2888280"/>
                <a:ext cx="210600" cy="11088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5634000" y="4289400"/>
            <a:ext cx="3509640" cy="1013040"/>
            <a:chOff x="5634000" y="4289400"/>
            <a:chExt cx="3509640" cy="1013040"/>
          </a:xfrm>
        </p:grpSpPr>
        <p:sp>
          <p:nvSpPr>
            <p:cNvPr id="171" name=""/>
            <p:cNvSpPr/>
            <p:nvPr/>
          </p:nvSpPr>
          <p:spPr>
            <a:xfrm>
              <a:off x="6849360" y="5012640"/>
              <a:ext cx="2294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Doel en resultate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34000" y="4289400"/>
              <a:ext cx="30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Verdana"/>
                </a:rPr>
                <a:t>€</a:t>
              </a: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942840" y="1727280"/>
            <a:ext cx="3547800" cy="1504440"/>
            <a:chOff x="942840" y="1727280"/>
            <a:chExt cx="3547800" cy="1504440"/>
          </a:xfrm>
        </p:grpSpPr>
        <p:sp>
          <p:nvSpPr>
            <p:cNvPr id="174" name=""/>
            <p:cNvSpPr/>
            <p:nvPr/>
          </p:nvSpPr>
          <p:spPr>
            <a:xfrm>
              <a:off x="942840" y="1727280"/>
              <a:ext cx="1854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Mens en relati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3"/>
            <a:stretch/>
          </p:blipFill>
          <p:spPr>
            <a:xfrm>
              <a:off x="3368880" y="2593800"/>
              <a:ext cx="1121760" cy="63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"/>
          <p:cNvGrpSpPr/>
          <p:nvPr/>
        </p:nvGrpSpPr>
        <p:grpSpPr>
          <a:xfrm>
            <a:off x="1685880" y="1227240"/>
            <a:ext cx="6484680" cy="4993200"/>
            <a:chOff x="1685880" y="1227240"/>
            <a:chExt cx="6484680" cy="4993200"/>
          </a:xfrm>
        </p:grpSpPr>
        <p:sp>
          <p:nvSpPr>
            <p:cNvPr id="177" name=""/>
            <p:cNvSpPr/>
            <p:nvPr/>
          </p:nvSpPr>
          <p:spPr>
            <a:xfrm>
              <a:off x="4415760" y="6022080"/>
              <a:ext cx="920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(controle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00240" y="3657600"/>
              <a:ext cx="67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Exter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85880" y="3635640"/>
              <a:ext cx="64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Inter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10360" y="1227240"/>
              <a:ext cx="104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Flexibilitei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46480" y="3747600"/>
              <a:ext cx="501732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827600" y="1496520"/>
              <a:ext cx="0" cy="450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620640"/>
            <a:ext cx="8718480" cy="41616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4 focusgebieden van een Ondernem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Innovatie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deeën/Klant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Product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Produceren/Bestur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48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Optimaliseren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Coördineren/Controler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Competentie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Stimulator/Mentor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9efee"/>
                </a:solidFill>
                <a:latin typeface="Garamond"/>
              </a:rPr>
              <a:t>Hoe start je een bedrijf ?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aramond"/>
              </a:rPr>
              <a:t>Gewoon doen !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63720" y="3446640"/>
            <a:ext cx="1385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Verdana"/>
              </a:rPr>
              <a:t>In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59560" y="4933800"/>
            <a:ext cx="19940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512040" y="1886040"/>
            <a:ext cx="2008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79640" y="4941720"/>
            <a:ext cx="18968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5080" y="1863720"/>
            <a:ext cx="2289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94320" y="3255840"/>
            <a:ext cx="16765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31040" y="4413240"/>
            <a:ext cx="4827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31720" y="4305240"/>
            <a:ext cx="4047480" cy="1041480"/>
            <a:chOff x="531720" y="4305240"/>
            <a:chExt cx="4047480" cy="1041480"/>
          </a:xfrm>
        </p:grpSpPr>
        <p:sp>
          <p:nvSpPr>
            <p:cNvPr id="207" name=""/>
            <p:cNvSpPr/>
            <p:nvPr/>
          </p:nvSpPr>
          <p:spPr>
            <a:xfrm>
              <a:off x="531720" y="4988880"/>
              <a:ext cx="264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Proces en uitvoering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3439800" y="4305240"/>
              <a:ext cx="1139400" cy="1041480"/>
              <a:chOff x="3439800" y="4305240"/>
              <a:chExt cx="1139400" cy="1041480"/>
            </a:xfrm>
          </p:grpSpPr>
          <p:sp>
            <p:nvSpPr>
              <p:cNvPr id="209" name=""/>
              <p:cNvSpPr/>
              <p:nvPr/>
            </p:nvSpPr>
            <p:spPr>
              <a:xfrm flipH="1">
                <a:off x="3439800" y="4338360"/>
                <a:ext cx="22320" cy="1008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499640" y="4399920"/>
                <a:ext cx="79560" cy="94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rot="10800000">
                <a:off x="3450960" y="4305240"/>
                <a:ext cx="1071360" cy="446400"/>
              </a:xfrm>
              <a:prstGeom prst="flowChartPunchedTape">
                <a:avLst/>
              </a:prstGeom>
              <a:solidFill>
                <a:srgbClr val="0066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 txBox="1"/>
              <p:nvPr/>
            </p:nvSpPr>
            <p:spPr>
              <a:xfrm>
                <a:off x="3544200" y="4341600"/>
                <a:ext cx="875160" cy="369000"/>
              </a:xfrm>
              <a:prstGeom prst="rect">
                <a:avLst/>
              </a:prstGeom>
            </p:spPr>
            <p:txBody>
              <a:bodyPr wrap="none" lIns="0" rIns="0" tIns="0" bIns="0" anchor="t" anchorCtr="1">
                <a:prstTxWarp prst="textWave1">
                  <a:avLst>
                    <a:gd name="adj1" fmla="val 6481"/>
                    <a:gd name="adj2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009999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c0c0c0"/>
                      </a:outerShdw>
                    </a:effectLst>
                    <a:latin typeface="Verdana"/>
                  </a:rPr>
                  <a:t>FINISH</a:t>
                </a:r>
                <a:endPara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Verdana"/>
                  <a:ea typeface="Verdana"/>
                </a:endParaRPr>
              </a:p>
            </p:txBody>
          </p:sp>
        </p:grpSp>
      </p:grpSp>
      <p:grpSp>
        <p:nvGrpSpPr>
          <p:cNvPr id="213" name=""/>
          <p:cNvGrpSpPr/>
          <p:nvPr/>
        </p:nvGrpSpPr>
        <p:grpSpPr>
          <a:xfrm>
            <a:off x="5277960" y="1727280"/>
            <a:ext cx="3656160" cy="1507320"/>
            <a:chOff x="5277960" y="1727280"/>
            <a:chExt cx="3656160" cy="1507320"/>
          </a:xfrm>
        </p:grpSpPr>
        <p:sp>
          <p:nvSpPr>
            <p:cNvPr id="214" name=""/>
            <p:cNvSpPr/>
            <p:nvPr/>
          </p:nvSpPr>
          <p:spPr>
            <a:xfrm>
              <a:off x="6712200" y="1727280"/>
              <a:ext cx="2221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Innovati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en marketing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5277960" y="2221560"/>
              <a:ext cx="1026360" cy="1013040"/>
              <a:chOff x="5277960" y="2221560"/>
              <a:chExt cx="1026360" cy="1013040"/>
            </a:xfrm>
          </p:grpSpPr>
          <p:pic>
            <p:nvPicPr>
              <p:cNvPr id="21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26800" y="2603520"/>
                <a:ext cx="330480" cy="63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"/>
              <p:cNvSpPr/>
              <p:nvPr/>
            </p:nvSpPr>
            <p:spPr>
              <a:xfrm flipH="1">
                <a:off x="5277960" y="2788560"/>
                <a:ext cx="268920" cy="8568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flipV="1">
                <a:off x="5394600" y="2381760"/>
                <a:ext cx="242640" cy="18504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5848560" y="2221560"/>
                <a:ext cx="12600" cy="25884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6048360" y="2468880"/>
                <a:ext cx="255960" cy="13428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069960" y="2888280"/>
                <a:ext cx="210600" cy="110880"/>
              </a:xfrm>
              <a:prstGeom prst="line">
                <a:avLst/>
              </a:prstGeom>
              <a:ln w="9360">
                <a:solidFill>
                  <a:srgbClr val="006e6b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2" name=""/>
          <p:cNvGrpSpPr/>
          <p:nvPr/>
        </p:nvGrpSpPr>
        <p:grpSpPr>
          <a:xfrm>
            <a:off x="5634000" y="4289400"/>
            <a:ext cx="3509640" cy="1013040"/>
            <a:chOff x="5634000" y="4289400"/>
            <a:chExt cx="3509640" cy="1013040"/>
          </a:xfrm>
        </p:grpSpPr>
        <p:sp>
          <p:nvSpPr>
            <p:cNvPr id="223" name=""/>
            <p:cNvSpPr/>
            <p:nvPr/>
          </p:nvSpPr>
          <p:spPr>
            <a:xfrm>
              <a:off x="6849360" y="5012640"/>
              <a:ext cx="2294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Doel en resultate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34000" y="4289400"/>
              <a:ext cx="30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Verdana"/>
                </a:rPr>
                <a:t>€</a:t>
              </a: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942840" y="1727280"/>
            <a:ext cx="3547800" cy="1504440"/>
            <a:chOff x="942840" y="1727280"/>
            <a:chExt cx="3547800" cy="1504440"/>
          </a:xfrm>
        </p:grpSpPr>
        <p:sp>
          <p:nvSpPr>
            <p:cNvPr id="226" name=""/>
            <p:cNvSpPr/>
            <p:nvPr/>
          </p:nvSpPr>
          <p:spPr>
            <a:xfrm>
              <a:off x="942840" y="1727280"/>
              <a:ext cx="1854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Mens en relati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3"/>
            <a:stretch/>
          </p:blipFill>
          <p:spPr>
            <a:xfrm>
              <a:off x="3368880" y="2593800"/>
              <a:ext cx="1121760" cy="63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"/>
          <p:cNvSpPr/>
          <p:nvPr/>
        </p:nvSpPr>
        <p:spPr>
          <a:xfrm>
            <a:off x="2347920" y="3746520"/>
            <a:ext cx="5016600" cy="1440"/>
          </a:xfrm>
          <a:prstGeom prst="line">
            <a:avLst/>
          </a:prstGeom>
          <a:ln w="1584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827600" y="1496880"/>
            <a:ext cx="0" cy="4500720"/>
          </a:xfrm>
          <a:prstGeom prst="line">
            <a:avLst/>
          </a:prstGeom>
          <a:ln w="1584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196560"/>
            <a:ext cx="7993080" cy="4158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50b296"/>
                </a:solidFill>
                <a:latin typeface="Garamond"/>
              </a:rPr>
              <a:t>Ondernemen en Ontwikkeling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1" name=""/>
          <p:cNvSpPr/>
          <p:nvPr/>
        </p:nvSpPr>
        <p:spPr>
          <a:xfrm>
            <a:off x="2725560" y="5838840"/>
            <a:ext cx="41929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Verdana"/>
              </a:rPr>
              <a:t>Beheer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99000" y="1073160"/>
            <a:ext cx="3219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Verdana"/>
              </a:rPr>
              <a:t>Flexibilit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481880" y="3470400"/>
            <a:ext cx="138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Verdana"/>
              </a:rPr>
              <a:t>Ex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2740680" y="1487880"/>
            <a:ext cx="4176720" cy="458172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4581720"/>
              <a:gd name="textAreaBottom" fmla="*/ 4582080 h 4581720"/>
            </a:gdLst>
            <a:ahLst/>
            <a:rect l="textAreaLeft" t="textAreaTop" r="textAreaRight" b="textAreaBottom"/>
            <a:pathLst>
              <a:path w="21600" h="21600">
                <a:moveTo>
                  <a:pt x="1970" y="15295"/>
                </a:moveTo>
                <a:arcTo wR="-9908" hR="-9908" stAng="9181270" swAng="-19684143"/>
                <a:lnTo>
                  <a:pt x="21560" y="11732"/>
                </a:lnTo>
                <a:arcTo wR="10800" hR="10800" stAng="297127" swAng="19684143"/>
                <a:lnTo>
                  <a:pt x="22831" y="4676"/>
                </a:lnTo>
                <a:lnTo>
                  <a:pt x="21454" y="8906"/>
                </a:lnTo>
                <a:lnTo>
                  <a:pt x="17224" y="7530"/>
                </a:lnTo>
                <a:close/>
              </a:path>
            </a:pathLst>
          </a:custGeom>
          <a:solidFill>
            <a:srgbClr val="50b2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42064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b9efee"/>
                </a:solidFill>
                <a:latin typeface="Garamond"/>
              </a:rPr>
              <a:t>De Clusius College </a:t>
            </a:r>
            <a:br>
              <a:rPr sz="4800"/>
            </a:br>
            <a:r>
              <a:rPr b="1" lang="nl-NL" sz="4800" spc="-1" strike="noStrike">
                <a:solidFill>
                  <a:srgbClr val="b9efee"/>
                </a:solidFill>
                <a:latin typeface="Garamond"/>
              </a:rPr>
              <a:t>College Company Startochtend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3212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an 9.00 uur tot circa 11.30 uur.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3680" y="2743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6" name=""/>
          <p:cNvSpPr/>
          <p:nvPr/>
        </p:nvSpPr>
        <p:spPr>
          <a:xfrm>
            <a:off x="4503600" y="3792600"/>
            <a:ext cx="158760" cy="439560"/>
          </a:xfrm>
          <a:prstGeom prst="rect">
            <a:avLst/>
          </a:prstGeom>
          <a:solidFill>
            <a:srgbClr val="0066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2120" bIns="421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06560" y="3235320"/>
            <a:ext cx="10512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97320" y="1751040"/>
            <a:ext cx="8203320" cy="3832560"/>
            <a:chOff x="697320" y="1751040"/>
            <a:chExt cx="8203320" cy="3832560"/>
          </a:xfrm>
        </p:grpSpPr>
        <p:sp>
          <p:nvSpPr>
            <p:cNvPr id="239" name=""/>
            <p:cNvSpPr/>
            <p:nvPr/>
          </p:nvSpPr>
          <p:spPr>
            <a:xfrm>
              <a:off x="6901200" y="1751040"/>
              <a:ext cx="148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Leider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72200" y="4943880"/>
              <a:ext cx="148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Manager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72440" y="1774440"/>
              <a:ext cx="1487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Coach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7320" y="5331600"/>
              <a:ext cx="134172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2120" bIns="42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Bereikt resulta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68080" y="5272560"/>
              <a:ext cx="144828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2120" bIns="42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Bouwt de toekoms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8800" y="2138400"/>
              <a:ext cx="139356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2120" bIns="42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Creëert zelfstur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88800" y="2114640"/>
              <a:ext cx="137808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2120" bIns="42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Verdana"/>
                </a:rPr>
                <a:t>Inspireert mens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12280" y="4920480"/>
              <a:ext cx="208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Ondernemer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204920" y="1273320"/>
            <a:ext cx="6481440" cy="5015880"/>
            <a:chOff x="1204920" y="1273320"/>
            <a:chExt cx="6481440" cy="5015880"/>
          </a:xfrm>
        </p:grpSpPr>
        <p:sp>
          <p:nvSpPr>
            <p:cNvPr id="248" name=""/>
            <p:cNvSpPr/>
            <p:nvPr/>
          </p:nvSpPr>
          <p:spPr>
            <a:xfrm>
              <a:off x="2207880" y="1750320"/>
              <a:ext cx="4376880" cy="410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887480" y="3717720"/>
              <a:ext cx="5005800" cy="168840"/>
              <a:chOff x="1887480" y="3717720"/>
              <a:chExt cx="5005800" cy="168840"/>
            </a:xfrm>
          </p:grpSpPr>
          <p:sp>
            <p:nvSpPr>
              <p:cNvPr id="250" name=""/>
              <p:cNvSpPr/>
              <p:nvPr/>
            </p:nvSpPr>
            <p:spPr>
              <a:xfrm>
                <a:off x="1887480" y="3792600"/>
                <a:ext cx="500580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87480" y="3717720"/>
                <a:ext cx="115200" cy="167760"/>
              </a:xfrm>
              <a:custGeom>
                <a:avLst/>
                <a:gdLst/>
                <a:ahLst/>
                <a:rect l="l" t="t" r="r" b="b"/>
                <a:pathLst>
                  <a:path w="166" h="229">
                    <a:moveTo>
                      <a:pt x="166" y="0"/>
                    </a:moveTo>
                    <a:lnTo>
                      <a:pt x="0" y="116"/>
                    </a:lnTo>
                    <a:lnTo>
                      <a:pt x="166" y="22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776280" y="3719160"/>
                <a:ext cx="116640" cy="167400"/>
              </a:xfrm>
              <a:custGeom>
                <a:avLst/>
                <a:gdLst/>
                <a:ahLst/>
                <a:rect l="l" t="t" r="r" b="b"/>
                <a:pathLst>
                  <a:path w="167" h="229">
                    <a:moveTo>
                      <a:pt x="0" y="229"/>
                    </a:moveTo>
                    <a:lnTo>
                      <a:pt x="167" y="114"/>
                    </a:lnTo>
                    <a:lnTo>
                      <a:pt x="0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307760" y="1551240"/>
              <a:ext cx="188640" cy="4498920"/>
              <a:chOff x="4307760" y="1551240"/>
              <a:chExt cx="188640" cy="4498920"/>
            </a:xfrm>
          </p:grpSpPr>
          <p:sp>
            <p:nvSpPr>
              <p:cNvPr id="254" name=""/>
              <p:cNvSpPr/>
              <p:nvPr/>
            </p:nvSpPr>
            <p:spPr>
              <a:xfrm>
                <a:off x="4385520" y="1551240"/>
                <a:ext cx="32040" cy="4498920"/>
              </a:xfrm>
              <a:custGeom>
                <a:avLst/>
                <a:gdLst/>
                <a:ahLst/>
                <a:rect l="l" t="t" r="r" b="b"/>
                <a:pathLst>
                  <a:path w="46" h="6110">
                    <a:moveTo>
                      <a:pt x="15" y="6110"/>
                    </a:moveTo>
                    <a:lnTo>
                      <a:pt x="46" y="6110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15" y="6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316040" y="5942520"/>
                <a:ext cx="180360" cy="107280"/>
              </a:xfrm>
              <a:custGeom>
                <a:avLst/>
                <a:gdLst/>
                <a:ahLst/>
                <a:rect l="l" t="t" r="r" b="b"/>
                <a:pathLst>
                  <a:path w="259" h="147">
                    <a:moveTo>
                      <a:pt x="0" y="0"/>
                    </a:moveTo>
                    <a:lnTo>
                      <a:pt x="130" y="147"/>
                    </a:lnTo>
                    <a:lnTo>
                      <a:pt x="259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307760" y="1551240"/>
                <a:ext cx="178920" cy="109080"/>
              </a:xfrm>
              <a:custGeom>
                <a:avLst/>
                <a:gdLst/>
                <a:ahLst/>
                <a:rect l="l" t="t" r="r" b="b"/>
                <a:pathLst>
                  <a:path w="258" h="147">
                    <a:moveTo>
                      <a:pt x="258" y="147"/>
                    </a:moveTo>
                    <a:lnTo>
                      <a:pt x="128" y="0"/>
                    </a:lnTo>
                    <a:lnTo>
                      <a:pt x="0" y="14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833560" y="2343960"/>
              <a:ext cx="3108240" cy="2904840"/>
              <a:chOff x="2833560" y="2343960"/>
              <a:chExt cx="3108240" cy="290484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2833560" y="3135960"/>
                <a:ext cx="2259720" cy="2112840"/>
                <a:chOff x="2833560" y="3135960"/>
                <a:chExt cx="2259720" cy="21128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2833560" y="5241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2"/>
                      </a:move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9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844360" y="5231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856960" y="522108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866680" y="52110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879280" y="51987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890440" y="51901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901600" y="51786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912400" y="5168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925000" y="5156280"/>
                  <a:ext cx="684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935080" y="51476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3" y="0"/>
                      </a:move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947680" y="51357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958480" y="5125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69640" y="51152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980800" y="5104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993400" y="50929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003120" y="5083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015720" y="50724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025440" y="5061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037680" y="5051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049200" y="504144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060000" y="5029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071160" y="5019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083760" y="500904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093480" y="4998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105720" y="49867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117240" y="49780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128400" y="4966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139200" y="4956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151800" y="4945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161880" y="4935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174120" y="49237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185280" y="491328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196440" y="4903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207600" y="48927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18760" y="488088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4" y="2"/>
                      </a:move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3" y="7"/>
                      </a:lnTo>
                      <a:lnTo>
                        <a:pt x="13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229920" y="48718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240720" y="486180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251880" y="48499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263400" y="483948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275640" y="482940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285360" y="48193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297960" y="480708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309120" y="47984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319920" y="47869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331440" y="4776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343680" y="4766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353400" y="47556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366000" y="47440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377160" y="47350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388320" y="4723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399480" y="47131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411720" y="470268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421440" y="46922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434040" y="46807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444120" y="46702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456720" y="4659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467520" y="46494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478680" y="4637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489840" y="46292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502440" y="461700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512160" y="46072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524760" y="4596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535920" y="4586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546720" y="4574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557880" y="45644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70480" y="4554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580200" y="4543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592800" y="45320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603960" y="4523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613680" y="4512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626280" y="45010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637440" y="4490640"/>
                  <a:ext cx="684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648240" y="4480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659400" y="4470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670920" y="445824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681720" y="4449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694320" y="443736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704040" y="44276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716640" y="4417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727440" y="440676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738960" y="43952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749760" y="438480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762360" y="4374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772440" y="4363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3784680" y="435240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795840" y="4343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807000" y="43315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3818160" y="43214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830760" y="4311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3840480" y="4300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852720" y="42890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864240" y="4280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875040" y="4268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86200" y="42580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897360" y="42480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908520" y="4237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920760" y="422532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930480" y="42156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943080" y="4205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3954240" y="41947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965760" y="4183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3976560" y="4174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987720" y="416232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4" y="2"/>
                      </a:move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3998880" y="4151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010040" y="41418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022280" y="4131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032360" y="41209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044960" y="41094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055760" y="4100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066920" y="4088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078080" y="40784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089240" y="40680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100400" y="40579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113000" y="40460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1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122720" y="403560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135320" y="40255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146480" y="40150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157280" y="400320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168440" y="3994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181040" y="3982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190760" y="39722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203360" y="39618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214520" y="39517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225680" y="3939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236480" y="3931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249080" y="3919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258800" y="39088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271760" y="389736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4282560" y="3888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293720" y="3876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304880" y="38664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316040" y="3855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327200" y="3845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339800" y="38340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349520" y="38250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361760" y="3813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373280" y="3803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4382640" y="37926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4395240" y="3782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406400" y="37720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417560" y="3760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428720" y="3751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441320" y="3739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451040" y="37292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3" y="9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463280" y="3719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474440" y="370872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485600" y="3696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496760" y="368676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509360" y="3676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519080" y="36662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531320" y="365436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541400" y="36453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554000" y="3633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564800" y="36234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575960" y="36129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587120" y="36025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599720" y="3591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4609440" y="358056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622040" y="35701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633200" y="3560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644000" y="354816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655520" y="35395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667760" y="35276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677480" y="3517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690080" y="35071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7" y="11"/>
                      </a:lnTo>
                      <a:lnTo>
                        <a:pt x="7" y="11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701240" y="3496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712400" y="34848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723560" y="3476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734720" y="34642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745520" y="3454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757040" y="3443760"/>
                  <a:ext cx="9720" cy="72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3" y="2"/>
                      </a:move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3" y="7"/>
                      </a:lnTo>
                      <a:lnTo>
                        <a:pt x="13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767840" y="34333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779000" y="3422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791600" y="34113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801320" y="340236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813920" y="3390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825080" y="3380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836240" y="3369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847040" y="3359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859640" y="3348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869720" y="3337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882320" y="3327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893120" y="3317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904280" y="3305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4915440" y="3296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928040" y="32846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937760" y="3274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950360" y="32641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961520" y="3253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972320" y="3241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983480" y="323172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994640" y="32212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9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005800" y="3210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018400" y="319932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028120" y="319032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040360" y="31784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051880" y="3168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063040" y="3157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2" y="2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073840" y="3147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086440" y="31359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2" y="1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"/>
              <p:cNvSpPr/>
              <p:nvPr/>
            </p:nvSpPr>
            <p:spPr>
              <a:xfrm>
                <a:off x="5096520" y="312552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3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108760" y="31154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119920" y="31053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131080" y="309312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142240" y="30844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153040" y="307404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164560" y="30625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175720" y="30535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186520" y="30416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198040" y="30315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210280" y="30211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220000" y="301068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232600" y="29991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243760" y="29887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254920" y="297828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266080" y="29682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278320" y="29563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88040" y="29476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300640" y="29358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311800" y="29257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322960" y="29152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334120" y="29048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346360" y="28933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356440" y="28828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69040" y="28724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79840" y="286200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91000" y="28504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402520" y="28414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3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413320" y="28296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424480" y="28195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437080" y="28090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46800" y="279864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59400" y="27871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2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70560" y="2776680"/>
                <a:ext cx="6840" cy="90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81360" y="276624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92520" y="27561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505120" y="2744280"/>
                <a:ext cx="6840" cy="90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514840" y="27356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3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526000" y="2723760"/>
                <a:ext cx="9720" cy="86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4" y="2"/>
                    </a:move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538600" y="27133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548320" y="27043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3" y="0"/>
                    </a:move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560560" y="26928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572080" y="26823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583240" y="26719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94040" y="26618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606640" y="26499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616360" y="26395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629320" y="26294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638680" y="261900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651280" y="26071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662080" y="25984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3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673600" y="25866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684760" y="25765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697360" y="25660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707080" y="25560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719320" y="25441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730480" y="2533680"/>
                <a:ext cx="720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741640" y="25236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752800" y="25131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765400" y="25012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775120" y="24922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3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787360" y="24807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798880" y="24703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810040" y="24598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820840" y="24498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832000" y="24379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843160" y="24274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855760" y="24174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865480" y="240696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878080" y="23950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88880" y="238644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900040" y="237456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2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911560" y="23644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922360" y="2354040"/>
                <a:ext cx="6840" cy="86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4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933520" y="23439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2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2846160" y="2352600"/>
              <a:ext cx="3107880" cy="2905200"/>
              <a:chOff x="2846160" y="2352600"/>
              <a:chExt cx="3107880" cy="2905200"/>
            </a:xfrm>
          </p:grpSpPr>
          <p:grpSp>
            <p:nvGrpSpPr>
              <p:cNvPr id="535" name=""/>
              <p:cNvGrpSpPr/>
              <p:nvPr/>
            </p:nvGrpSpPr>
            <p:grpSpPr>
              <a:xfrm>
                <a:off x="2846160" y="2352600"/>
                <a:ext cx="2259720" cy="2112480"/>
                <a:chOff x="2846160" y="2352600"/>
                <a:chExt cx="2259720" cy="21124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2846160" y="2352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856960" y="2362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868120" y="2373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879280" y="2383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891880" y="23950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901600" y="24040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914200" y="2415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925000" y="2426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936160" y="2436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947680" y="2446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2959920" y="24584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969640" y="2468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982240" y="24793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993400" y="2489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004200" y="25012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015720" y="2509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026880" y="25218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037680" y="2531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050280" y="2542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060000" y="25527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072600" y="25642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083760" y="257328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094920" y="2585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105720" y="25956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118320" y="260568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128400" y="26161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141000" y="26280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151800" y="26380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162960" y="2648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174120" y="26589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186720" y="26704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196440" y="267912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09040" y="26913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218760" y="27014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229920" y="271152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242160" y="27219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251880" y="27324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264480" y="2743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275640" y="27529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286800" y="27648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297960" y="27752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310560" y="2785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319920" y="27957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332520" y="28076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343680" y="28177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355200" y="2828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366000" y="2838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378600" y="28501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388320" y="28587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400920" y="28710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411720" y="288108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423240" y="2891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434040" y="2901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445200" y="2913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456720" y="2923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468960" y="29340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478680" y="29444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491280" y="2955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502440" y="29649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513240" y="2976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524760" y="29872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537000" y="2997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546720" y="3007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559320" y="30196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570480" y="3028320"/>
                  <a:ext cx="684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581640" y="3040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592800" y="30506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605040" y="3060720"/>
                  <a:ext cx="684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614760" y="3070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9"/>
                      </a:ln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3626280" y="30812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638520" y="30931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3648240" y="3102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660840" y="31136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670560" y="31240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3683160" y="3134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694320" y="31446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11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705480" y="3156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3716640" y="31669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3729240" y="3177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3738960" y="31874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751200" y="31993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3762360" y="32079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773520" y="3219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784680" y="32302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797280" y="3240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3807000" y="32504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819600" y="32626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3830760" y="32727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3841560" y="3282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3852720" y="32932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864240" y="3305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3875040" y="3314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3887640" y="33256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3897360" y="3336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9" y="11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909960" y="33465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920760" y="33566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3932280" y="33685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943080" y="337716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955680" y="3389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3965760" y="3399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978000" y="34113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988800" y="3420000"/>
                  <a:ext cx="720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998880" y="343008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3" y="7"/>
                      </a:lnTo>
                      <a:lnTo>
                        <a:pt x="13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011480" y="34423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022280" y="345096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033800" y="3462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044960" y="34729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057560" y="348336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066920" y="3493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079520" y="35053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4089240" y="35157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4101840" y="3526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113000" y="35362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4123800" y="35481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135320" y="35568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147560" y="3568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57280" y="3579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169880" y="35892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181040" y="35996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192200" y="3611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203360" y="3621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215600" y="3632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225680" y="36421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238280" y="36543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249080" y="36630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260240" y="3674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271400" y="3684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11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284000" y="369540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293720" y="3705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306320" y="37173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316040" y="37278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328280" y="37382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339800" y="374832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350600" y="3760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361760" y="376884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374360" y="37807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384080" y="3791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9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395240" y="3799800"/>
                  <a:ext cx="828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407840" y="3811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417560" y="38217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429800" y="3832200"/>
                  <a:ext cx="8280" cy="90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4441320" y="38426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452120" y="3854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4463280" y="38646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4475880" y="3875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485600" y="3885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4498200" y="38970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509360" y="3906000"/>
                  <a:ext cx="6840" cy="864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4520520" y="39178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4531320" y="392796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4542840" y="393840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554000" y="394848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566600" y="3960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575960" y="3970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588560" y="398088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599720" y="3991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610880" y="4003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622040" y="40118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4634640" y="40237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644000" y="4033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4656600" y="40442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4667760" y="4054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4678920" y="406620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690080" y="40766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702680" y="40870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4712400" y="40971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4724640" y="41090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734720" y="41180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4747320" y="41295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4758120" y="41400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4"/>
                      </a:move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3" y="9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4767840" y="414864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1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3" y="7"/>
                      </a:lnTo>
                      <a:lnTo>
                        <a:pt x="13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4780440" y="416052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791600" y="417096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4802760" y="4182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4813560" y="4191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826520" y="4203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836240" y="42134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11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848840" y="42238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4859640" y="42343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4870800" y="424584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4882320" y="425484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4894560" y="426672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4904280" y="42768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4916880" y="428724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4928040" y="429768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4938840" y="430920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4950360" y="43196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4961160" y="43300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972320" y="434016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4984920" y="435204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4994640" y="43606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3"/>
                      </a:move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5007240" y="437256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5018400" y="43826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029560" y="43930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5040360" y="44035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052960" y="441504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063040" y="4425480"/>
                  <a:ext cx="792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4"/>
                      </a:move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5075280" y="443592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2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5086440" y="4446360"/>
                  <a:ext cx="6840" cy="72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3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5097600" y="44578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9" y="7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"/>
              <p:cNvSpPr/>
              <p:nvPr/>
            </p:nvSpPr>
            <p:spPr>
              <a:xfrm>
                <a:off x="5108760" y="44672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121360" y="44787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131080" y="44892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143680" y="44996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154840" y="45100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164560" y="45201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176800" y="45320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186520" y="45406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199120" y="45525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210280" y="45626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4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221440" y="45730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232600" y="45835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244840" y="4595040"/>
                <a:ext cx="720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254560" y="460404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267160" y="46159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278320" y="46263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289840" y="463644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300640" y="46468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313240" y="46587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1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322960" y="46688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4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335560" y="46792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346360" y="46897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357880" y="47012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369040" y="47098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379840" y="47221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391000" y="47322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403600" y="474228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413320" y="47527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425920" y="47646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1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437080" y="47746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4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447880" y="47851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9" y="2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459400" y="47955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471640" y="48070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481360" y="48160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493960" y="48279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505120" y="483840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516280" y="48484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527440" y="48589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4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538600" y="486936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2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549760" y="48808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560560" y="48895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573160" y="49017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582880" y="49118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595480" y="49219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606640" y="493236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617800" y="49442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628960" y="49543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640120" y="49647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651280" y="49752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663880" y="49867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673600" y="49957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685840" y="50076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697360" y="501804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708160" y="502812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719320" y="50385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731920" y="505044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741640" y="50590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753880" y="50709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765400" y="508140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776200" y="50914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787360" y="51015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799960" y="511380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1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809680" y="51238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4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822280" y="513396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832000" y="51444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844600" y="515628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855400" y="516528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866920" y="51768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2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878080" y="518724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890680" y="5197680"/>
                <a:ext cx="6840" cy="86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900040" y="520776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4"/>
                    </a:moveTo>
                    <a:lnTo>
                      <a:pt x="7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912640" y="521964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1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923800" y="52300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933520" y="523872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946120" y="525060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5366520" y="4116960"/>
              <a:ext cx="111276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00560" y="4047840"/>
              <a:ext cx="1140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PRODUCENT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452480" y="5040360"/>
              <a:ext cx="1439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578840" y="5075640"/>
              <a:ext cx="1203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BESTUURDE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216240" y="5051880"/>
              <a:ext cx="1077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971440" y="5087520"/>
              <a:ext cx="1383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COORDINAT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402280" y="4111200"/>
              <a:ext cx="102492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463840" y="4063680"/>
              <a:ext cx="1254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CONTROLEU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355120" y="3150720"/>
              <a:ext cx="16146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467800" y="3186000"/>
              <a:ext cx="1184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STIMULAT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191040" y="2184840"/>
              <a:ext cx="120456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77440" y="2220120"/>
              <a:ext cx="79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MENT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488840" y="2194920"/>
              <a:ext cx="136260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569840" y="2206800"/>
              <a:ext cx="1114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INNOVAT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62200" y="3115800"/>
              <a:ext cx="12556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78880" y="3209760"/>
              <a:ext cx="1314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BEMIDDELAA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912840" y="6024240"/>
              <a:ext cx="110700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017240" y="605952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Beheersing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974280" y="3663360"/>
              <a:ext cx="71208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73640" y="3698640"/>
              <a:ext cx="46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Exter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204920" y="3641400"/>
              <a:ext cx="68256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298520" y="3676680"/>
              <a:ext cx="448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Inter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908880" y="1273320"/>
              <a:ext cx="107640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014360" y="1308600"/>
              <a:ext cx="78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300" spc="-1" strike="noStrike">
                  <a:solidFill>
                    <a:srgbClr val="000000"/>
                  </a:solidFill>
                  <a:latin typeface="Verdana"/>
                </a:rPr>
                <a:t>Flexibilitei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Oriëntatie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ff"/>
                </a:solidFill>
                <a:latin typeface="Garamond"/>
              </a:rPr>
              <a:t>The Power of Now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800" spc="-1" strike="noStrike">
                <a:solidFill>
                  <a:srgbClr val="b9efee"/>
                </a:solidFill>
                <a:latin typeface="Garamond"/>
              </a:rPr>
              <a:t>Pre-Start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ff"/>
                </a:solidFill>
                <a:latin typeface="Garamond"/>
              </a:rPr>
              <a:t>Warming-Up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Start</a:t>
            </a: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!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Van de marathon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4360" y="278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A plan is a plan is a plan …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Goede voorbereiding is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Kijk op :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www.rabobank.n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www.kvk.n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b9efee"/>
                </a:solidFill>
                <a:latin typeface="Garamond"/>
              </a:rPr>
              <a:t>De groep</a:t>
            </a:r>
            <a:endParaRPr b="1" lang="en-US" sz="9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Een groep is nog geen team !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2"/>
          <a:stretch/>
        </p:blipFill>
        <p:spPr>
          <a:xfrm>
            <a:off x="392040" y="330120"/>
            <a:ext cx="835992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E FUNCTI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recte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rectie-secretar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arketing Mana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nkoop Mana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ersoneelsmana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Financieel Mana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roductie Mana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Focus ,  Daniel San …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Het Programm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Welkom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Wat is een CC en hoe werkt dat 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Groepen ???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De Start ….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fsluitin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" y="347760"/>
            <a:ext cx="8229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2"/>
          <a:stretch/>
        </p:blipFill>
        <p:spPr>
          <a:xfrm>
            <a:off x="684360" y="189000"/>
            <a:ext cx="78483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Wat wil jij gaan ervaren, doen en leren in je College Company ?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5869080"/>
          </a:xfrm>
          <a:prstGeom prst="rect">
            <a:avLst/>
          </a:prstGeom>
          <a:ln w="0">
            <a:noFill/>
          </a:ln>
        </p:spPr>
      </p:pic>
      <p:pic>
        <p:nvPicPr>
          <p:cNvPr id="868" name="" descr=""/>
          <p:cNvPicPr/>
          <p:nvPr/>
        </p:nvPicPr>
        <p:blipFill>
          <a:blip r:embed="rId3"/>
          <a:stretch/>
        </p:blipFill>
        <p:spPr>
          <a:xfrm>
            <a:off x="684360" y="5516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86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6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92169" fill="hold"/>
                                        <p:tgtEl>
                                          <p:spTgt spid="8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efening Baart Kunst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82072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8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9efee"/>
                </a:solidFill>
                <a:latin typeface="Garamond"/>
              </a:rPr>
              <a:t>Het Product</a:t>
            </a: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Mag ook een dienst zijn 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9efee"/>
                </a:solidFill>
                <a:latin typeface="Garamond"/>
              </a:rPr>
              <a:t>Hoe en waarin wil jij je ontwikkelen ?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Competenties ??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Het Proces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Jaarritm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Opstarten : Product bedenken/ Functies verdel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Ondernemingsplan mak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4800" spc="-1" strike="noStrike" baseline="30000">
                <a:solidFill>
                  <a:srgbClr val="ffffff"/>
                </a:solidFill>
                <a:latin typeface="Garamond"/>
              </a:rPr>
              <a:t>ste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 aandeelhoudersvergadering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Jaarritme 2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nkopen/Producer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Verkope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Afsluiten/Liquidatie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4800" spc="-1" strike="noStrike" baseline="30000">
                <a:solidFill>
                  <a:srgbClr val="ffffff"/>
                </a:solidFill>
                <a:latin typeface="Garamond"/>
              </a:rPr>
              <a:t>de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 en laatste aandeelhoudersvergadering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Ruzie ???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Wrijving geeft warmt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Wat is een College Company en hoe werkt dat ?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89" name="" descr=""/>
          <p:cNvPicPr/>
          <p:nvPr/>
        </p:nvPicPr>
        <p:blipFill>
          <a:blip r:embed="rId2"/>
          <a:stretch/>
        </p:blipFill>
        <p:spPr>
          <a:xfrm>
            <a:off x="392040" y="330120"/>
            <a:ext cx="835992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Proces of Product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ntwikkel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4" name=""/>
          <p:cNvSpPr/>
          <p:nvPr/>
        </p:nvSpPr>
        <p:spPr>
          <a:xfrm>
            <a:off x="2556000" y="5054760"/>
            <a:ext cx="447480" cy="16509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rot="19792800">
            <a:off x="2678040" y="4468680"/>
            <a:ext cx="2862360" cy="452520"/>
          </a:xfrm>
          <a:custGeom>
            <a:avLst/>
            <a:gdLst/>
            <a:ahLst/>
            <a:rect l="l" t="t" r="r" b="b"/>
            <a:pathLst>
              <a:path w="1920" h="604">
                <a:moveTo>
                  <a:pt x="0" y="399"/>
                </a:moveTo>
                <a:cubicBezTo>
                  <a:pt x="141" y="206"/>
                  <a:pt x="283" y="14"/>
                  <a:pt x="456" y="7"/>
                </a:cubicBezTo>
                <a:cubicBezTo>
                  <a:pt x="629" y="0"/>
                  <a:pt x="863" y="262"/>
                  <a:pt x="1040" y="359"/>
                </a:cubicBezTo>
                <a:cubicBezTo>
                  <a:pt x="1217" y="456"/>
                  <a:pt x="1373" y="604"/>
                  <a:pt x="1520" y="591"/>
                </a:cubicBezTo>
                <a:cubicBezTo>
                  <a:pt x="1667" y="578"/>
                  <a:pt x="1793" y="428"/>
                  <a:pt x="1920" y="279"/>
                </a:cubicBezTo>
              </a:path>
            </a:pathLst>
          </a:custGeom>
          <a:noFill/>
          <a:ln w="25560">
            <a:solidFill>
              <a:srgbClr val="ff33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rot="19792800">
            <a:off x="5111280" y="2868120"/>
            <a:ext cx="2860920" cy="452520"/>
          </a:xfrm>
          <a:custGeom>
            <a:avLst/>
            <a:gdLst/>
            <a:ahLst/>
            <a:rect l="l" t="t" r="r" b="b"/>
            <a:pathLst>
              <a:path w="1920" h="604">
                <a:moveTo>
                  <a:pt x="0" y="399"/>
                </a:moveTo>
                <a:cubicBezTo>
                  <a:pt x="141" y="206"/>
                  <a:pt x="283" y="14"/>
                  <a:pt x="456" y="7"/>
                </a:cubicBezTo>
                <a:cubicBezTo>
                  <a:pt x="629" y="0"/>
                  <a:pt x="863" y="262"/>
                  <a:pt x="1040" y="359"/>
                </a:cubicBezTo>
                <a:cubicBezTo>
                  <a:pt x="1217" y="456"/>
                  <a:pt x="1373" y="604"/>
                  <a:pt x="1520" y="591"/>
                </a:cubicBezTo>
                <a:cubicBezTo>
                  <a:pt x="1667" y="578"/>
                  <a:pt x="1793" y="428"/>
                  <a:pt x="1920" y="279"/>
                </a:cubicBezTo>
              </a:path>
            </a:pathLst>
          </a:custGeom>
          <a:noFill/>
          <a:ln w="25560">
            <a:solidFill>
              <a:srgbClr val="ff33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rot="19792800">
            <a:off x="3835080" y="3723840"/>
            <a:ext cx="2860560" cy="452520"/>
          </a:xfrm>
          <a:custGeom>
            <a:avLst/>
            <a:gdLst/>
            <a:ahLst/>
            <a:rect l="l" t="t" r="r" b="b"/>
            <a:pathLst>
              <a:path w="1920" h="604">
                <a:moveTo>
                  <a:pt x="0" y="399"/>
                </a:moveTo>
                <a:cubicBezTo>
                  <a:pt x="141" y="206"/>
                  <a:pt x="283" y="14"/>
                  <a:pt x="456" y="7"/>
                </a:cubicBezTo>
                <a:cubicBezTo>
                  <a:pt x="629" y="0"/>
                  <a:pt x="863" y="262"/>
                  <a:pt x="1040" y="359"/>
                </a:cubicBezTo>
                <a:cubicBezTo>
                  <a:pt x="1217" y="456"/>
                  <a:pt x="1373" y="604"/>
                  <a:pt x="1520" y="591"/>
                </a:cubicBezTo>
                <a:cubicBezTo>
                  <a:pt x="1667" y="578"/>
                  <a:pt x="1793" y="428"/>
                  <a:pt x="1920" y="279"/>
                </a:cubicBezTo>
              </a:path>
            </a:pathLst>
          </a:custGeom>
          <a:noFill/>
          <a:ln w="25560">
            <a:solidFill>
              <a:srgbClr val="6ab475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rot="19792800">
            <a:off x="6281640" y="2130120"/>
            <a:ext cx="2862360" cy="450720"/>
          </a:xfrm>
          <a:custGeom>
            <a:avLst/>
            <a:gdLst/>
            <a:ahLst/>
            <a:rect l="l" t="t" r="r" b="b"/>
            <a:pathLst>
              <a:path w="1920" h="604">
                <a:moveTo>
                  <a:pt x="0" y="399"/>
                </a:moveTo>
                <a:cubicBezTo>
                  <a:pt x="141" y="206"/>
                  <a:pt x="283" y="14"/>
                  <a:pt x="456" y="7"/>
                </a:cubicBezTo>
                <a:cubicBezTo>
                  <a:pt x="629" y="0"/>
                  <a:pt x="863" y="262"/>
                  <a:pt x="1040" y="359"/>
                </a:cubicBezTo>
                <a:cubicBezTo>
                  <a:pt x="1217" y="456"/>
                  <a:pt x="1373" y="604"/>
                  <a:pt x="1520" y="591"/>
                </a:cubicBezTo>
                <a:cubicBezTo>
                  <a:pt x="1667" y="578"/>
                  <a:pt x="1793" y="428"/>
                  <a:pt x="1920" y="279"/>
                </a:cubicBezTo>
              </a:path>
            </a:pathLst>
          </a:custGeom>
          <a:noFill/>
          <a:ln w="25560">
            <a:solidFill>
              <a:srgbClr val="6ab47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rot="19792800">
            <a:off x="1411200" y="5300640"/>
            <a:ext cx="2862360" cy="452520"/>
          </a:xfrm>
          <a:custGeom>
            <a:avLst/>
            <a:gdLst/>
            <a:ahLst/>
            <a:rect l="l" t="t" r="r" b="b"/>
            <a:pathLst>
              <a:path w="1920" h="604">
                <a:moveTo>
                  <a:pt x="0" y="399"/>
                </a:moveTo>
                <a:cubicBezTo>
                  <a:pt x="141" y="206"/>
                  <a:pt x="283" y="14"/>
                  <a:pt x="456" y="7"/>
                </a:cubicBezTo>
                <a:cubicBezTo>
                  <a:pt x="629" y="0"/>
                  <a:pt x="863" y="262"/>
                  <a:pt x="1040" y="359"/>
                </a:cubicBezTo>
                <a:cubicBezTo>
                  <a:pt x="1217" y="456"/>
                  <a:pt x="1373" y="604"/>
                  <a:pt x="1520" y="591"/>
                </a:cubicBezTo>
                <a:cubicBezTo>
                  <a:pt x="1667" y="578"/>
                  <a:pt x="1793" y="428"/>
                  <a:pt x="1920" y="279"/>
                </a:cubicBezTo>
              </a:path>
            </a:pathLst>
          </a:custGeom>
          <a:noFill/>
          <a:ln w="25560">
            <a:solidFill>
              <a:srgbClr val="6ab475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7819920" y="1460520"/>
            <a:ext cx="1144800" cy="1155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44480" y="5243400"/>
            <a:ext cx="2014560" cy="11559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747880" y="5502240"/>
            <a:ext cx="166680" cy="247680"/>
          </a:xfrm>
          <a:custGeom>
            <a:avLst/>
            <a:gdLst/>
            <a:ahLst/>
            <a:rect l="l" t="t" r="r" b="b"/>
            <a:pathLst>
              <a:path w="120" h="168">
                <a:moveTo>
                  <a:pt x="120" y="0"/>
                </a:moveTo>
                <a:lnTo>
                  <a:pt x="40" y="128"/>
                </a:lnTo>
                <a:lnTo>
                  <a:pt x="0" y="168"/>
                </a:lnTo>
              </a:path>
            </a:pathLst>
          </a:custGeom>
          <a:noFill/>
          <a:ln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753320" y="1990800"/>
            <a:ext cx="277920" cy="366480"/>
          </a:xfrm>
          <a:custGeom>
            <a:avLst/>
            <a:gdLst/>
            <a:ahLst/>
            <a:rect l="l" t="t" r="r" b="b"/>
            <a:pathLst>
              <a:path w="200" h="248">
                <a:moveTo>
                  <a:pt x="0" y="248"/>
                </a:moveTo>
                <a:lnTo>
                  <a:pt x="120" y="80"/>
                </a:lnTo>
                <a:lnTo>
                  <a:pt x="200" y="0"/>
                </a:lnTo>
              </a:path>
            </a:pathLst>
          </a:custGeom>
          <a:noFill/>
          <a:ln w="255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7797960" y="2297160"/>
            <a:ext cx="188640" cy="47520"/>
          </a:xfrm>
          <a:prstGeom prst="line">
            <a:avLst/>
          </a:prstGeom>
          <a:ln w="25560">
            <a:solidFill>
              <a:srgbClr val="6ab47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79160" y="2340000"/>
            <a:ext cx="481032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Professionele ontwikkelin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443480" y="5168880"/>
            <a:ext cx="459072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6ab475"/>
                </a:solidFill>
                <a:latin typeface="Verdana"/>
              </a:rPr>
              <a:t>Persoonlijke ontwikkelin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0" y="2085840"/>
            <a:ext cx="9143640" cy="4087440"/>
            <a:chOff x="0" y="2085840"/>
            <a:chExt cx="9143640" cy="4087440"/>
          </a:xfrm>
        </p:grpSpPr>
        <p:grpSp>
          <p:nvGrpSpPr>
            <p:cNvPr id="908" name=""/>
            <p:cNvGrpSpPr/>
            <p:nvPr/>
          </p:nvGrpSpPr>
          <p:grpSpPr>
            <a:xfrm>
              <a:off x="0" y="2085840"/>
              <a:ext cx="5506560" cy="1142640"/>
              <a:chOff x="0" y="2085840"/>
              <a:chExt cx="5506560" cy="1142640"/>
            </a:xfrm>
          </p:grpSpPr>
          <p:sp>
            <p:nvSpPr>
              <p:cNvPr id="909" name=""/>
              <p:cNvSpPr/>
              <p:nvPr/>
            </p:nvSpPr>
            <p:spPr>
              <a:xfrm>
                <a:off x="0" y="2085840"/>
                <a:ext cx="5506560" cy="114264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55760" y="2352240"/>
                <a:ext cx="4737240" cy="52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0640" rIns="80640" tIns="42120" bIns="42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900" spc="-1" strike="noStrike">
                    <a:solidFill>
                      <a:srgbClr val="ff3300"/>
                    </a:solidFill>
                    <a:latin typeface="Verdana"/>
                  </a:rPr>
                  <a:t>Professionele Expertise</a:t>
                </a:r>
                <a:endParaRPr b="0" lang="en-US" sz="2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4260240" y="5030640"/>
              <a:ext cx="4883400" cy="1142640"/>
              <a:chOff x="4260240" y="5030640"/>
              <a:chExt cx="4883400" cy="1142640"/>
            </a:xfrm>
          </p:grpSpPr>
          <p:sp>
            <p:nvSpPr>
              <p:cNvPr id="912" name=""/>
              <p:cNvSpPr/>
              <p:nvPr/>
            </p:nvSpPr>
            <p:spPr>
              <a:xfrm>
                <a:off x="4260240" y="5030640"/>
                <a:ext cx="4883400" cy="114264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394880" y="5167440"/>
                <a:ext cx="4748400" cy="52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0640" rIns="80640" tIns="42120" bIns="421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900" spc="-1" strike="noStrike">
                    <a:solidFill>
                      <a:srgbClr val="6ab475"/>
                    </a:solidFill>
                    <a:latin typeface="Verdana"/>
                  </a:rPr>
                  <a:t>Persoonlijke Effectiviteit</a:t>
                </a:r>
                <a:endParaRPr b="0" lang="en-US" sz="2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oces volgens J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an een idee via een marktonderzoek komen tot een product waar een markt voor i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en ondernemingsplan, halfjaarverslag en jaarverslag schrijv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en zakelijke bankrekening openen en via internet bankier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 basis van het ondernemingplan aandelen verkop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erantwoording afleggen aan aandeelhouders in aandeelhoudersvergadering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uncties verdelen en verantwoordelijkheid nemen voor een bepaalde afdeling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unctioneringsgesprekken houd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 inkoop, productie, marktbewerking en verkoop in Nederland of daarbuiten regel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 administratie voere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onbelasting, BTW en vennootschapbelasting afdragen en de aandeelhouders terugbetale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b9efee"/>
                </a:solidFill>
                <a:latin typeface="Garamond"/>
              </a:rPr>
              <a:t>Geld</a:t>
            </a:r>
            <a:endParaRPr b="1" lang="en-US" sz="9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aramond"/>
              </a:rPr>
              <a:t>Aandelen ?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9efee"/>
                </a:solidFill>
                <a:latin typeface="Garamond"/>
              </a:rPr>
              <a:t>Ik kan het niet alleen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2"/>
          <a:stretch/>
        </p:blipFill>
        <p:spPr>
          <a:xfrm>
            <a:off x="1574640" y="1600200"/>
            <a:ext cx="5994720" cy="449568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3"/>
          <a:stretch/>
        </p:blipFill>
        <p:spPr>
          <a:xfrm>
            <a:off x="82692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7541" fill="hold"/>
                                        <p:tgtEl>
                                          <p:spTgt spid="9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92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92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9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92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92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71308" fill="hold"/>
                                        <p:tgtEl>
                                          <p:spTgt spid="9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830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Begeleiders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Begeleidend Docen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Bedrijfsbegele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Financieel Adviseu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eam Commercieel Onderneme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Regio – Coördinator  Jong Onderneme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072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b9efee"/>
                </a:solidFill>
                <a:latin typeface="Garamond"/>
              </a:rPr>
              <a:t>En nu …</a:t>
            </a:r>
            <a:endParaRPr b="1" lang="en-US" sz="9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2"/>
          <a:stretch/>
        </p:blipFill>
        <p:spPr>
          <a:xfrm>
            <a:off x="154764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93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3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214262" fill="hold"/>
                                        <p:tgtEl>
                                          <p:spTgt spid="9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Maak een groep of zoek je groep op …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Ondernemen ?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Hoe ziet dat eruit ?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Bestorm je hersens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Bedenk een product !!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Of dienst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Bijna Alles mag en kan ….  Nog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r is een lijst …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2"/>
          <a:stretch/>
        </p:blipFill>
        <p:spPr>
          <a:xfrm>
            <a:off x="5651640" y="544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93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93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388807" fill="hold"/>
                                        <p:tgtEl>
                                          <p:spTgt spid="9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9efee"/>
                </a:solidFill>
                <a:latin typeface="Garamond"/>
              </a:rPr>
              <a:t>Wat heb je nodig ??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Vraag erom !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Niemand de deur uit …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1 . Tot de groep samengesteld is.</a:t>
            </a:r>
            <a:br>
              <a:rPr sz="6000"/>
            </a:b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2. Tot er een eerste productidee is met werkafspraken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11.30 :  Fijne Vakantie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2"/>
          <a:stretch/>
        </p:blipFill>
        <p:spPr>
          <a:xfrm>
            <a:off x="1763640" y="501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215981" fill="hold"/>
                                        <p:tgtEl>
                                          <p:spTgt spid="9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9efee"/>
                </a:solidFill>
                <a:latin typeface="Garamond"/>
              </a:rPr>
              <a:t>Ondernemers zijn net uien !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Ze hebben lagen …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Het “ UI “ Model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De ondernemer als men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1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De ondernemer als manager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1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De ondernemer als entrepreneur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9efee"/>
                </a:solidFill>
                <a:latin typeface="Garamond"/>
              </a:rPr>
              <a:t>Jong Ondernemen ?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Landelijke stichting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14:00:14Z</dcterms:created>
  <dc:creator>AAk</dc:creator>
  <dc:description/>
  <dc:language>en-US</dc:language>
  <cp:lastModifiedBy>AAk</cp:lastModifiedBy>
  <dcterms:modified xsi:type="dcterms:W3CDTF">2010-06-29T08:36:01Z</dcterms:modified>
  <cp:revision>19</cp:revision>
  <dc:subject/>
  <dc:title>Wat is een College Company en hoe werkt dat ? </dc:title>
</cp:coreProperties>
</file>